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2DE-DABE-4134-9414-ED5463C5D9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grupo de pacientes estaba formado por 7 sujetos … que habían recibido tratamiento quimioterápico en los últimos 5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n respondido a diversas preguntas, de las que entresacamos algunas de las contestaciones más interesantes que nos puedan servir de 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 pregunt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¿Piensan que los hospitales son seguro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¿Qué dudas se les presenta cuando escuchan hablar de la seguridad en el ámbito sanitario?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general sí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nque es cierto que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“Hay gente que ya entra en el hospital pensando que se trata de un sitio peligroso y lleno de gente incompetent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respuesta muy repetida fue: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“Yo pienso que estoy seguro porque tengo confianza en los profesionales que me atiend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pariencia de desorganización y descontrol produce mucha inseguridad en los pac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grupo de enfermeras estaba formado por 8 sujetos … que trabajan en hospital de día o planta de hospitaliz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 respondido a diversas preguntas, de las que entresacamos algunas de las contestaciones más interes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una respuesta unánime. Se recalca la importancia de la comunic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La seguridad del paciente, componente clave de la calidad asistencial, ha adquirido gran relevancia en los últimos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Entendiéndose por seguridad clínica la prevención de lesiones al paciente o de eventos adversos, como consecuencia o resultado de los procesos asistenci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Sabemos que los pacientes y sus familias, desean sentirse seguros y confiados en los cuidados sanitarios que reci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Y que los gestores y profesionales también desean ofrecer una asistencia sanitaria segura, efectiva y e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y una evidente preocupación por la sobrecarga y su reperc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finalizar podemos decir q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T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anto pacientes como profesionales consideran importante la seguridad clínica; y ambos deberían participar en su mejor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Y que a los profesionales de enfermería  les debe corresponder ocupar un lugar de liderazgo en la formación de los paci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La administración de agentes antineoplásicos es un complejo proceso no exento de riesgos importantes para el pa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Y aunque los  farmacéuticos lideran los procedimientos  de seguridad de la medicación, el papel de enfermería es clave en la prevención de err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Además, los pacientes, muchos de los cuales están dispuestos a participar en la prevención de errores, ocuparán un papel importante y se les deberá animar  a hacer preguntas y expresar sus inquietu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un trabajo previo realizamos encuestas a 45 profesionales y 64 pacientes sobre seguridad durante los tratamientos, en que obtuvimos las siguientes 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hora, el objetivo de nuestro trabajo ha si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Mejorar el conocimiento sobre las opiniones de enfermeras y pacientes  con cáncer hematológico en materia de seguridad clínica durante el tratamiento quimioteráp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llo hemos utilizado la técnica de grupo focal con pacientes y enfer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sultados que hemos obtenido han sido los sigu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009-0769-4930-9B67-35467917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A24-89AC-488D-82B3-21D2A64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968-DBED-4CAE-93D4-C7B9AEFA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A15-092E-4B14-AB2C-381BF4B5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2A2-A7F6-410D-A83A-66DEBBF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157-6C2F-4CF4-9333-2102119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5CB-A759-4BC2-BC36-930B273D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8C9-D481-4B2E-AAA8-4B7E994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D25-9D96-4E59-B350-D2552C28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FD1-F4A9-4010-9923-8BE5B9F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238-D554-4301-8E5F-B97F603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E38-573A-43C5-A410-4B8845A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5BA-2011-4950-9526-14344CBC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587" t="0" r="0" b="34252"/>
          <a:stretch/>
        </p:blipFill>
        <p:spPr>
          <a:xfrm>
            <a:off x="1440" y="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981000"/>
            <a:ext cx="7526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CUAL ES LA OPINION DE PACIENTES Y PROFESIONALES SOBRE LA SEGURIDAD DURANTE EL TRATAMIENTO DEL CANCER HEMAT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Antonia García N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Francisco Javier Cap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Grupo «Síndromes Linfoproliferativos» (PAIDI-CTS4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Fundación para la Gestión de la Investigación Biomédica de Cádi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Hospital Puerta del Mar Cád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GRUPO FOCAL PA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47640" y="1773360"/>
          <a:ext cx="6096240" cy="4552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1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3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  <a:tr h="74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  <a:tr h="101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opl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nfoma: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eloma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  <a:tr h="101376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dos han recibido tratamiento quimioterápico en los últimos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549360"/>
            <a:ext cx="8066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Piensan que los hospitales son segur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Qué dudas se les presenta cuando escuchan hablar de la seguridad en el ámbito sanitario?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n general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Hay gente que ya entra en el hospital pensando que se trata de un sitio peligroso y lleno de gente incompeten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549360"/>
            <a:ext cx="80661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Cómo piensan que se podría informar sobre posibles riesgos sin generar alarma o inseguridad? ¿Qué piensan del consentimiento inform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Creo que el consentimiento informado no se da en el momento adecuado y, como estás entre la espada y la pared, no tienes más remedio que firm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Aunque el consentimiento informado debería ser para mi seguridad, la impresión que me ha dado es que lo firmaba para la seguridad del médic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549360"/>
            <a:ext cx="806616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En qué medida confían en que los profesionales sanitarios no cometan errores que puedan afectarl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Yo pienso que estoy seguro porque tengo confianza en los profesionales que me atiend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549360"/>
            <a:ext cx="80661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En qué medida piensan que puede ser posible que un paciente sufra un error grave en un hos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Cuando veo las cosas desorganizadas, con retrasos, con las enfermeras agobiadas, protestando … pienso que es fácil que puedan producirse fall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806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En general, en qué grado están Uds. preocupados de sufrir un err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No mucho, porque creo que deben existir medidas de seguridad, aunque no te sabría decir ningun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549360"/>
            <a:ext cx="80661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00"/>
                </a:solidFill>
                <a:latin typeface="Verdana"/>
              </a:rPr>
              <a:t>No obstante, ¿los pacientes deberían estar preocupados sobre posibles err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La verdad es que sí, porque creo que muchas veces nos colocan en manos de novatos sin supervisión … y lo noto enseguida … y me da un yuyu horroros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GRUPO FOCAL ENFER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47640" y="1773360"/>
          <a:ext cx="6096240" cy="3537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1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3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 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ugar tra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ospital día: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lanta: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549360"/>
            <a:ext cx="80661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Pensando en actuaciones dirigidas a la seguridad del paciente, ¿qué aspectos le gustaría que se tuvieran en cu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Nos parece insegura la administración en la planta de quimioterapia durante la noche … es como más descontrolad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Hay mucha relajación y se debería ser más estricto en la vigilancia y cumplimiento de las normas de segur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549360"/>
            <a:ext cx="80661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Respecto a posibles riesgos, ¿en qué medida piensa que es conveniente que los usuarios sean inform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os pacientes y también los familiares deberían estar mejor informados sobre los posibles efectos secundari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848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a seguridad del paciente, componente clave de la calidad asistencial, ha adquirido gran relevancia en los últimos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Se entiende por seguridad clínica (SC) la prevención de lesiones al paciente o de eventos adversos (EA), como consecuencia o resultado de los procesos asistenci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os pacientes y sus familias, desean sentirse seguros y confiados en los cuidados sanitarios que rec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os gestores y profesionales desean ofrecer una asistencia sanitaria segura, efectiva y 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549360"/>
            <a:ext cx="806616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Cuál sería, desde su punto de vista, la mejor estrategia para informar a la población sobre posibles riesgos de la medic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Debería mejorarse la coordinación entre consultas, farmacia y hospital de dí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Debería mejorarse la información escrit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549360"/>
            <a:ext cx="80661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¿Hay algún otro aspecto que le gustaría mencio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Nadie quiere entender que nuestro trabajo es muy estresante, tanto por la responsabilidad de lo que hacemos como por la carga emocion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Creemos que con la crisis económica hay recortes tanto en personal como en materiales de calidad, lo que evidentemente repercute en la segur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989000"/>
            <a:ext cx="73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MS Mincho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MS Mincho"/>
              </a:rPr>
              <a:t>Tanto pacientes como profesionales consideran importante la seguridad clínica; y ambos deberían participar en su mej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MS Mincho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MS Mincho"/>
              </a:rPr>
              <a:t>A los profesionales de enfermería  les debe corresponder ocupar un lugar de liderazgo en la formación de los pac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836640"/>
            <a:ext cx="78483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a administración de agentes antineoplásicos es un complejo proceso no exento de riesgos importantes para el pa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Aunque los  farmacéuticos lideran los procedimientos  de seguridad de la medicación, el papel de enfermería es clave en la prevención de err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Los pacientes, muchos de los cuales están dispuestos a participar en la prevención de errores, ocuparán un papel importante y se les deberá animar  a hacer preguntas y expresar sus inquie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NUESTROS DATOS PREV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32360" y="1484280"/>
          <a:ext cx="3240000" cy="4969080"/>
        </p:xfrm>
        <a:graphic>
          <a:graphicData uri="http://schemas.openxmlformats.org/drawingml/2006/table">
            <a:tbl>
              <a:tblPr/>
              <a:tblGrid>
                <a:gridCol w="1620720"/>
                <a:gridCol w="1619280"/>
              </a:tblGrid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C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 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.5 (27 – 83 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opla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nfoma: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eloma: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. Colon: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. Mama: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tros: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1192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dos han recibido tratamiento quimioterápico en los últimos 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1484280"/>
          <a:ext cx="3240000" cy="4969080"/>
        </p:xfrm>
        <a:graphic>
          <a:graphicData uri="http://schemas.openxmlformats.org/drawingml/2006/table">
            <a:tbl>
              <a:tblPr/>
              <a:tblGrid>
                <a:gridCol w="2016000"/>
                <a:gridCol w="1224000"/>
              </a:tblGrid>
              <a:tr h="99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>
                        <a:alpha val="50000"/>
                      </a:srgbClr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uxiliar de clí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99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fermer@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armacéutic@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99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édico@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836640"/>
            <a:ext cx="7848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LOS PROFESIONALES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calificaron el clima de seguridad con una puntuación de 6.9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Un 91.1% consideró que se trabaja bajo presión, aunque se sacrifique la seguridad del paciente (76.6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l 84.4% cree que no hay suficiente personal para afrontar la carga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l 62.2% cree que la gerencia/dirección no facilita un clima laboral que favorezca la seguridad del paciente y que sólo parece interesarse por ésta cuando ya ha ocurrido algún suceso adverso en un paciente (77.7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836640"/>
            <a:ext cx="78483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LOS PACIENTES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consideraron la atención médica segura uno de los 3 criterios más importantes de la calidad de un sistema sanitario (53.1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Al 78.1% le preocupa que pueda ocurrir algún efecto adverso, aunque el 73% cree que los profesionales siguen protocolos que garantizan un correcto nivel de segu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l 82.8% cree que la buena comunicación es útil para una atención más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Sólo el 69% recuerda haber firmado el consentimiento inform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200" y="1484280"/>
            <a:ext cx="806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Conocer las opiniones de enfermeras y pacientes  con cáncer hematológico sobre la seguridad clínica durante el tratamiento 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ME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8200" y="1484280"/>
            <a:ext cx="8066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Dos grupos foc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1º) compuesto de afectados de neoplasias hematológica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2º) compuesto por enfermer@s de la unidad de Hemat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7082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Verdana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12:34Z</dcterms:created>
  <dc:creator>Usuario</dc:creator>
  <dc:description/>
  <dc:language>en-US</dc:language>
  <cp:lastModifiedBy>Usuario</cp:lastModifiedBy>
  <dcterms:modified xsi:type="dcterms:W3CDTF">2012-10-14T10:36:22Z</dcterms:modified>
  <cp:revision>155</cp:revision>
  <dc:subject/>
  <dc:title>Diapositiva 1</dc:title>
</cp:coreProperties>
</file>